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080" y="687240"/>
            <a:ext cx="4567320" cy="342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506937-B2BF-48DD-B758-03F0A68E8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use a data set, you first allocate it (establish a link to it), then access the data 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cros for the access method that you have cho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o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a data set means either or both of two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set aside (create) space for a new data set o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establish a logical link between a job step and any data 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nlike other types of data sets, every VSAM data set must be catalogu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define </a:t>
            </a:r>
            <a:r>
              <a:rPr b="0" lang="en-US" sz="1200" spc="-1" strike="noStrike">
                <a:solidFill>
                  <a:srgbClr val="010000"/>
                </a:solidFill>
                <a:latin typeface="Times New Roman"/>
                <a:ea typeface="Arial Unicode MS"/>
              </a:rPr>
              <a:t>VSAM data sets using both IDCAMS and JCL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VS/ESA and the MVS/XA environment, DFP (Data Facility Product) version 2, Release 3 must be inst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most cases, such as when coding the Job Controlled Language (JCL) statement to describe a VSAM data set, the cluster name is used. When a cluster is opened, all physical data sets it represents are opened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distinction between “cluster” and “data set” is necessary only when considering the physical components of a VSAM data set. The term data set is used quite frequently in the various VSAM manuals and in this cour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context will tell whether a physical data set or a logical data set (a cluster) is being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1CD8-3E76-4B34-8946-7D8883962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63D8-DD2F-44CB-B943-BAFA1957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E381-82AD-4560-A397-5F5E357E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682C-5102-44D1-B550-20E12D6E6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B611-11B6-4BA7-8B0E-559B4F48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56A4-21C8-401E-B03C-C127ED58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535E-4707-4674-B9D5-DB30D9E9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58E8-C01C-4E3D-A93A-92C0506C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7241-7DFF-4627-AB75-87FCD479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FE01-4ABB-44F7-8B45-E43F3F16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C17B-0B4E-4D5C-8EF7-6E7DA90E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A788-2AF7-4D7B-BE20-B68D57E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cal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B1F8911-F076-42E6-9B51-28AF9B0D78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216160"/>
            <a:ext cx="5302080" cy="18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cture 6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VSAM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1BDA-52A0-4852-8286-E80C67FC3237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82080"/>
            <a:ext cx="586728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locating a data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107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a data set, you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oc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8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s to allocate a data s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F data set panel, option 3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O ALLOCATE com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Control Language (JC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Method Serv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DCA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Catalog Access Method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access the data using the access method that you have cho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B823-1B8F-46BB-8709-65A60584F0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26080" y="1297080"/>
            <a:ext cx="2832120" cy="4721040"/>
          </a:xfrm>
          <a:prstGeom prst="rect">
            <a:avLst/>
          </a:prstGeom>
          <a:noFill/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518148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creating catalog entries for a VSAM data set and allocating space for them is called defining the data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set must be defined before it is loaded with data or accessed by a processing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AM data sets can be defined using eith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C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36360"/>
            <a:ext cx="6629400" cy="7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fining a VSAM Data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943600" y="1525680"/>
            <a:ext cx="2433600" cy="3865320"/>
            <a:chOff x="5943600" y="1525680"/>
            <a:chExt cx="2433600" cy="3865320"/>
          </a:xfrm>
        </p:grpSpPr>
        <p:sp>
          <p:nvSpPr>
            <p:cNvPr id="115" name=""/>
            <p:cNvSpPr/>
            <p:nvPr/>
          </p:nvSpPr>
          <p:spPr>
            <a:xfrm>
              <a:off x="6027840" y="4516560"/>
              <a:ext cx="1131840" cy="868320"/>
            </a:xfr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70680" y="4513320"/>
              <a:ext cx="1098360" cy="78408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3840" y="4513320"/>
              <a:ext cx="300240" cy="40320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32520" y="4824360"/>
              <a:ext cx="1144440" cy="54144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35800" y="4759200"/>
              <a:ext cx="261720" cy="50004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76800" y="4495680"/>
              <a:ext cx="1097280" cy="79380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8520" y="4495680"/>
              <a:ext cx="300240" cy="40176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7200" y="4807080"/>
              <a:ext cx="1143000" cy="54108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05520" y="4888080"/>
              <a:ext cx="263520" cy="50292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91360" y="4986360"/>
              <a:ext cx="909720" cy="40464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41920" y="4741920"/>
              <a:ext cx="260640" cy="51732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27640" y="4794120"/>
              <a:ext cx="454320" cy="34776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1480" y="4587840"/>
              <a:ext cx="399960" cy="50184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943600" y="1525680"/>
              <a:ext cx="1525680" cy="2255760"/>
              <a:chOff x="5943600" y="1525680"/>
              <a:chExt cx="1525680" cy="2255760"/>
            </a:xfrm>
          </p:grpSpPr>
          <p:graphicFrame>
            <p:nvGraphicFramePr>
              <p:cNvPr id="129" name=""/>
              <p:cNvGraphicFramePr/>
              <p:nvPr/>
            </p:nvGraphicFramePr>
            <p:xfrm>
              <a:off x="5961240" y="1590840"/>
              <a:ext cx="1508040" cy="2190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961240" y="1590840"/>
                        <a:ext cx="1508040" cy="21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1" name=""/>
              <p:cNvSpPr/>
              <p:nvPr/>
            </p:nvSpPr>
            <p:spPr>
              <a:xfrm>
                <a:off x="5991120" y="2897280"/>
                <a:ext cx="116064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75280" y="2173320"/>
                <a:ext cx="1292400" cy="239760"/>
              </a:xfrm>
              <a:solidFill>
                <a:srgbClr val="fe7f0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975280" y="2554200"/>
                <a:ext cx="1292400" cy="235080"/>
              </a:xfrm>
              <a:solidFill>
                <a:srgbClr val="fe7f0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75280" y="2933640"/>
                <a:ext cx="1292400" cy="236520"/>
              </a:xfrm>
              <a:solidFill>
                <a:srgbClr val="fe7f0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43600" y="2519280"/>
                <a:ext cx="116208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61240" y="2139840"/>
                <a:ext cx="1161720" cy="2732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972040" y="1525680"/>
                <a:ext cx="1293840" cy="592200"/>
              </a:xfrm>
              <a:prstGeom prst="ellipse">
                <a:avLst/>
              </a:prstGeom>
              <a:gradFill rotWithShape="0">
                <a:gsLst>
                  <a:gs pos="0">
                    <a:srgbClr val="48b0be"/>
                  </a:gs>
                  <a:gs pos="100000">
                    <a:srgbClr val="51c5d5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V="1">
              <a:off x="6437160" y="3665520"/>
              <a:ext cx="1800" cy="82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65760" y="3676680"/>
              <a:ext cx="1800" cy="81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40640" y="2319480"/>
              <a:ext cx="73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S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6522-53B7-4CF3-96C1-FE77CF25A7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160200"/>
            <a:ext cx="5068800" cy="250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 Example of Using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 Indexed Dataset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(KS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DC2E-7506-4CCD-A7E5-8AAC7DA9FEB6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reating a VSAM Dataset Using JC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85800"/>
            <a:ext cx="8915400" cy="484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CREATEKS JOB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STEP1    EXEC PGM=IDCAMS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SYSPRINT DD   SYSOUT=*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SYSIN    DD   *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DEFINE    CLUSTER  (NAME(KC02170.DATATEST.T08)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RECORDS(15 15)                                                 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RECORDSIZE(71 71)                                           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KEYS(11 0)                                                                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INDEXED)                                                            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DATA     (NAME(KC02170.DATATEST.T08.DAT)) 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INDEX    (NAME(KC02170.DATATEST.T08.IDX))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*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6386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164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ey is 11 bytes, starting at location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verage record size is 71 bytes (as well as the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cords are initially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6A75-685C-4ABB-8ECA-4FC81FEACCFC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4440" y="-1800"/>
            <a:ext cx="874728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leting a VSAM Dataset Using JC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914400"/>
            <a:ext cx="8915400" cy="26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112 //DELVSAM  JOB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120 //STEP1    EXEC PGM=IDCAMS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130 //SYSPRINT DD SYSOUT=*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140 //SYSIN    DD *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400    DELETE    KC02170.DATATEST.V80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900 /*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000 /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A70E-F020-448A-A255-D8F98C3CA4D3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ding an Account - initial defini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685800"/>
            <a:ext cx="8915400" cy="594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700* file for Reading new account to process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800     Select AcctsFD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900        Assign to "Accts"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000        Access mode is RANDOM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100        Organization is INDEXED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110        Record Key is accountNum of AccountData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200        File Status is AcctsStatus.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210*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300 Data Division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400 File Section.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500 FD AcctsFD.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700 01 AccountData.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800    05  creditLimit PIC 9(5).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00    05  accountNum    PIC X(6)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10    05  Name          PIC X(10).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20    05  FILLER        PIC X(5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828800"/>
            <a:ext cx="8381880" cy="14479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486400"/>
            <a:ext cx="8381880" cy="38088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D97B-0E8B-4EBC-99EB-8D034EEC6BD6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ding an Account - Proced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533520"/>
            <a:ext cx="8991360" cy="631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100 Procedure division.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0     perform openAccountData.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1*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2     DISPLAY "Enter new account: "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3     DISPLAY "   Limit 9(5), AccountNum x(6), name X(10)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4     ACCEPT NewAccount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10*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20     </a:t>
            </a:r>
            <a:r>
              <a:rPr b="0" lang="en-US" sz="2000" spc="-1" strike="noStrike">
                <a:solidFill>
                  <a:srgbClr val="00e000"/>
                </a:solidFill>
                <a:latin typeface="Times New Roman"/>
              </a:rPr>
              <a:t>move name of newAccount to name of AccountData.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30     </a:t>
            </a:r>
            <a:r>
              <a:rPr b="0" lang="en-US" sz="2000" spc="-1" strike="noStrike">
                <a:solidFill>
                  <a:srgbClr val="00e000"/>
                </a:solidFill>
                <a:latin typeface="Times New Roman"/>
              </a:rPr>
              <a:t>move creditLimit of newAccount to creditLimit of Account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40     </a:t>
            </a:r>
            <a:r>
              <a:rPr b="0" lang="en-US" sz="2000" spc="-1" strike="noStrike">
                <a:solidFill>
                  <a:srgbClr val="00e000"/>
                </a:solidFill>
                <a:latin typeface="Times New Roman"/>
              </a:rPr>
              <a:t>move accountNum of newAccount to accountNum of AccountData.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400     write AccountData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700     if AcctsStatus is not equal to "00"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800          Display "write Error for Acct " AcctsStatus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900     end-if.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000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110     perform closeAccountData.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200     stop ru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B414-BDC9-47BC-98C9-ED56FC58BD9A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ding an Account - Open/Clo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755640"/>
            <a:ext cx="8991360" cy="55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300 OpenAccountData.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400      Display "trying to open AcctMast"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500      open I-O AcctsFD.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600      if AcctsStatus is not equal to "00"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700          Display "open Error for Account Status " Accts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800      end-if.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900      exit.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000*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100 CloseAccountData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200       close AcctsFD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300       if AcctsStatus is not equal to "00"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400           Display "close Error for AcctMast " AcctsStatu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500       end-if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600       Display "done closing AccMast"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700       ex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62F6-A945-42CE-9A5A-C463D25935FE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all 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504E-F7D1-4E4A-9C85-3D9C6974A7F0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05280" y="-1800"/>
            <a:ext cx="98298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All Accounts - Initial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685800"/>
            <a:ext cx="8991360" cy="594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700* file for Reading new account to process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800     Select optional AcctsFD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900       Assign to "Accts"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000       Access mode is SEQUENTIAL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100       Organization is INDEXED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110       Record Key is AccountNum of AccountData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200       File Status is AcctsStatus.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210*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300 Data Division.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400 File Section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500 FD AcctsFD.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700 01 AccountData.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800     05  creditLimit PIC 9(5)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00     05  accountNum    PIC X(6).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10     05  Name          PIC X(10).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20     05  FILLER        PIC X(59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828800"/>
            <a:ext cx="8382240" cy="38088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D03A-F479-49DB-AA2E-B657B9102156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06440" y="1152360"/>
            <a:ext cx="6634080" cy="18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iewing Data Sets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en to use what (revisit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712E-216B-4586-A29B-824764022D08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05280" y="-1800"/>
            <a:ext cx="98298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All Accounts - Loop throug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533520"/>
            <a:ext cx="8991360" cy="631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100 Procedure division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200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0     perform openAccountData.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1*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2     move 1 to moreAccounts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4     perform until moreAccounts = 0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6          read acctsFD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7              at end  move 0 to moreAccounts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8              not at end  perform outputAccount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9          end-read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20          if AcctsStatus is not equal to "00"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30              Display "read Error for AcctMast " AcctsStatu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40              move 0 to moreAccounts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50          end-if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70     end-perform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110     perform closeAccountData.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200     stop ru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F35F-0716-4B39-A2B3-BEC5FFBA6BA8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05280" y="-1800"/>
            <a:ext cx="982980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All Accounts - output a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ingle Accou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482840"/>
            <a:ext cx="8991360" cy="301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800*---------------------------------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900* output a record in the account master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100*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200  OutputAccount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300      Display "Account Number: " AccountNum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400      Display "    Credit Limit: " creditLi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500      Display "    Name: " Name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800      ex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8F6B-AE22-48D8-8D52-F4891BDB80CB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ing a Specific Accou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233A-0333-43A6-A07F-4CF6E381C23D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ing an Accou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755640"/>
            <a:ext cx="8991360" cy="594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100 Procedure division.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200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0     perform openAccountData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1*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2     DISPLAY "ENTER ACCOUNT NUMBER X(6)"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3     ACCEPT InputAccountNumber.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4     move InputAccountNumber to AccountNum.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5*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6     read acctsFD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20     if AcctsStatus is not equal to "00"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30          Display "read Error for AcctMast " AcctsStatu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40     else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41          Perform OutputAccount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50     end-if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110     perform closeAccountData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200     stop run.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2772-EA07-4E92-A657-D2D8BEA26AA3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533520"/>
            <a:ext cx="6324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your Reference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dexed File IO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B4F6-A19A-4C62-819C-08D49CF412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57200" y="304920"/>
          <a:ext cx="846936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46936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A2A0-6405-46F7-8001-EE5EF542773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04920" y="304920"/>
          <a:ext cx="8521560" cy="60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21560" cy="60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6909-1FCD-43E0-B849-F6ABD28CE25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65240" y="792000"/>
          <a:ext cx="7453440" cy="55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792000"/>
                    <a:ext cx="745344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A26E-EF29-49B1-8172-102B97A89A5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990720" y="1066680"/>
          <a:ext cx="7486560" cy="36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486560" cy="36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CC80-E335-480F-9290-29D76CD0F99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528480" y="463680"/>
          <a:ext cx="8291520" cy="52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463680"/>
                    <a:ext cx="829152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B17F-65A6-49BC-A74B-70A9B5ECCDA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6960" y="228240"/>
            <a:ext cx="598788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quential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72520" cy="45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75920" indent="-47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when the hit rate is 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5920" indent="-47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cated to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sert, delete, am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5920" indent="-475920">
              <a:lnSpc>
                <a:spcPct val="90000"/>
              </a:lnSpc>
              <a:spcBef>
                <a:spcPts val="122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when the hit rate is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5920" indent="-47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storage e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5920" indent="-47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organ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400" y="981000"/>
            <a:ext cx="2790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4480" y="3429000"/>
            <a:ext cx="22950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B431-939C-4A88-BD39-19B6F2F55F31}" type="slidenum">
              <a:t>3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3680" y="225360"/>
          <a:ext cx="7907040" cy="614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225360"/>
                    <a:ext cx="7907040" cy="61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70E1-C098-4A67-8D41-E69162E7465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838080" y="304920"/>
          <a:ext cx="7748640" cy="706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48640" cy="70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0731-47A5-4D80-A12B-F8FFBAD7D5B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457200" y="380880"/>
          <a:ext cx="7958160" cy="58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7958160" cy="58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4477-CA41-43C7-889A-0A03D01C24A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533520" y="304920"/>
          <a:ext cx="796896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796896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56F0-CFC4-4CF7-AE72-EEAC6CF20E5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533520" y="762120"/>
          <a:ext cx="8424720" cy="367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8424720" cy="36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F31C-0073-42FF-A106-E72D47086BD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457200"/>
          <a:ext cx="8140680" cy="455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1406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92E4-3950-45F9-A7E2-03FCA23F58A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533520" y="762120"/>
          <a:ext cx="806292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80629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7EF60-AE70-46D3-9381-5BCCDB97DC0D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0040" y="221760"/>
            <a:ext cx="514656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ve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386000"/>
            <a:ext cx="8481960" cy="467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tefu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torage if the file is only partially pop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not recover 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deleted reco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, numer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 must map on to the range of the Relative Record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s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 Access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tle storage over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ad sequenti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0840" y="949320"/>
            <a:ext cx="2790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840" y="4238640"/>
            <a:ext cx="22950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D527-719C-4B34-9AD0-179EFC41A59E}" type="slidenum">
              <a:t>4</a:t>
            </a:fld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" dur="1" fill="hold"/>
                                  <p:tgtEl>
                                    <p:spTgt spid="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61760" y="228240"/>
            <a:ext cx="611028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dexed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480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w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 Access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pecially s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hen adding or deleting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very storage effic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Must store the Index records, the alternate Index records, the data records and the alternate data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8226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, alphanumeric ke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plicate alternate ke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sequenti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ny of its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ly recover 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deleted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4520" y="898560"/>
            <a:ext cx="2790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7520" y="3946680"/>
            <a:ext cx="2295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CFC2-091E-4997-82AA-2D47F2E711E9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800" y="-49680"/>
            <a:ext cx="7300800" cy="187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aring Access Method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Different File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560" y="1752480"/>
          <a:ext cx="9296280" cy="476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1752480"/>
                    <a:ext cx="929628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4401-35BD-4115-BECB-9BBAEEF879FC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137880"/>
            <a:ext cx="6658200" cy="184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SAM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Virtual Storage Acces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6F07-6A97-4885-A13A-7CF1F49F8B51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439640"/>
            <a:ext cx="4449600" cy="48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SDS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en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) cluster has two data sets. One data set holds the actual data records. The other data set contains an index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component permits the direct retrieval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752480" y="-360"/>
            <a:ext cx="62928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us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0560" y="1855800"/>
            <a:ext cx="4381200" cy="3887640"/>
          </a:xfrm>
          <a:prstGeom prst="rect">
            <a:avLst/>
          </a:prstGeom>
          <a:noFill/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583160" y="1920960"/>
            <a:ext cx="4497480" cy="3605400"/>
            <a:chOff x="4583160" y="1920960"/>
            <a:chExt cx="4497480" cy="3605400"/>
          </a:xfrm>
        </p:grpSpPr>
        <p:grpSp>
          <p:nvGrpSpPr>
            <p:cNvPr id="70" name=""/>
            <p:cNvGrpSpPr/>
            <p:nvPr/>
          </p:nvGrpSpPr>
          <p:grpSpPr>
            <a:xfrm>
              <a:off x="4583160" y="2746440"/>
              <a:ext cx="1525680" cy="2259000"/>
              <a:chOff x="4583160" y="2746440"/>
              <a:chExt cx="1525680" cy="2259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4600440" y="2814480"/>
              <a:ext cx="1508400" cy="2190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600440" y="2814480"/>
                        <a:ext cx="1508400" cy="219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4630680" y="4121280"/>
                <a:ext cx="116064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21320" y="3397320"/>
                <a:ext cx="1285920" cy="24120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621320" y="3781440"/>
                <a:ext cx="1285920" cy="2332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621320" y="4157640"/>
                <a:ext cx="1285920" cy="2332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83160" y="3743280"/>
                <a:ext cx="116208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00440" y="3363840"/>
                <a:ext cx="1162080" cy="2732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08360" y="2746440"/>
                <a:ext cx="1300320" cy="598320"/>
              </a:xfrm>
              <a:prstGeom prst="ellipse">
                <a:avLst/>
              </a:prstGeom>
              <a:gradFill rotWithShape="0">
                <a:gsLst>
                  <a:gs pos="0">
                    <a:srgbClr val="48b0be"/>
                  </a:gs>
                  <a:gs pos="100000">
                    <a:srgbClr val="51c5d5"/>
                  </a:gs>
                </a:gsLst>
                <a:lin ang="135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031080" y="2746440"/>
              <a:ext cx="1525320" cy="2259000"/>
              <a:chOff x="6031080" y="2746440"/>
              <a:chExt cx="1525320" cy="225900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6048360" y="2814480"/>
              <a:ext cx="1508040" cy="219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048360" y="2814480"/>
                        <a:ext cx="1508040" cy="219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6078600" y="4121280"/>
                <a:ext cx="116028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70680" y="3397320"/>
                <a:ext cx="1284120" cy="24120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070680" y="3781440"/>
                <a:ext cx="1284120" cy="2332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070680" y="4157640"/>
                <a:ext cx="1284120" cy="2332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31080" y="3743280"/>
                <a:ext cx="116172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48360" y="3363840"/>
                <a:ext cx="1162080" cy="2732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56280" y="2746440"/>
                <a:ext cx="1300320" cy="598320"/>
              </a:xfrm>
              <a:prstGeom prst="ellipse">
                <a:avLst/>
              </a:prstGeom>
              <a:gradFill rotWithShape="0">
                <a:gsLst>
                  <a:gs pos="0">
                    <a:srgbClr val="48b0be"/>
                  </a:gs>
                  <a:gs pos="100000">
                    <a:srgbClr val="51c5d5"/>
                  </a:gs>
                </a:gsLst>
                <a:lin ang="135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7554960" y="2670120"/>
              <a:ext cx="1525680" cy="2259000"/>
              <a:chOff x="7554960" y="2670120"/>
              <a:chExt cx="1525680" cy="22590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7572240" y="2738520"/>
              <a:ext cx="1508400" cy="2190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572240" y="2738520"/>
                        <a:ext cx="1508400" cy="21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" name=""/>
              <p:cNvSpPr/>
              <p:nvPr/>
            </p:nvSpPr>
            <p:spPr>
              <a:xfrm>
                <a:off x="7602480" y="4044960"/>
                <a:ext cx="116064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585200" y="3321000"/>
                <a:ext cx="1293840" cy="24120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85200" y="3703680"/>
                <a:ext cx="1293840" cy="2350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85200" y="4078440"/>
                <a:ext cx="1293840" cy="23652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554960" y="3666960"/>
                <a:ext cx="1162080" cy="27180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572240" y="3287880"/>
                <a:ext cx="1162080" cy="27288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580160" y="2670120"/>
                <a:ext cx="1300320" cy="598680"/>
              </a:xfrm>
              <a:prstGeom prst="ellipse">
                <a:avLst/>
              </a:prstGeom>
              <a:gradFill rotWithShape="0">
                <a:gsLst>
                  <a:gs pos="0">
                    <a:srgbClr val="48b0be"/>
                  </a:gs>
                  <a:gs pos="100000">
                    <a:srgbClr val="51c5d5"/>
                  </a:gs>
                </a:gsLst>
                <a:lin ang="135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27840" y="36622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51720" y="36957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48960" y="36194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2040" y="1920960"/>
              <a:ext cx="846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0040" y="5159520"/>
              <a:ext cx="181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lated Data S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63440" y="762120"/>
            <a:ext cx="8980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luster is the collection of physical data sets that make up one logical data set. The concept of a cluster is more suited for a KS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D984-DF51-49EC-A893-837C5FD203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63080" y="1523520"/>
            <a:ext cx="8751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00"/>
              </a:spcBef>
              <a:buClr>
                <a:srgbClr val="01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The advantages of VSAM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AM supports more data se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s record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a variety of I/O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greater efficiency for the application programs and for the overal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1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The major limitation of VSAM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ata sets must reside on DASD. They cannot be created on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28600" y="84240"/>
            <a:ext cx="8610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tages and Limitations of VS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0" y="649296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6195-85AE-4568-8EC5-463FD2BB7C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22:36:31Z</dcterms:created>
  <dc:creator>Tom Murach</dc:creator>
  <dc:description/>
  <dc:language>en-US</dc:language>
  <cp:lastModifiedBy>Noah Pascarell</cp:lastModifiedBy>
  <dcterms:modified xsi:type="dcterms:W3CDTF">2009-02-10T03:13:54Z</dcterms:modified>
  <cp:revision>34</cp:revision>
  <dc:subject/>
  <dc:title>No Slide Title</dc:title>
</cp:coreProperties>
</file>